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1CD-D495-4B29-A314-CAEDF628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B77-7605-460F-8603-964FDFA8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E3E-D934-4F85-B435-4D47A1CF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0DB-A9F0-4638-8748-087A4A54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1A8-A634-46B4-AEC6-847E0A78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537-B981-43BD-8DBC-073FD346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4A4-A12D-4670-9C27-D1CFAF2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2A3-7AE3-470B-ACC8-BD1A925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A2ED-E4D5-4DC4-B43C-2CD8EFDE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A73-2D91-47E5-A335-95A91BC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A59-0CF8-4D6A-88FB-24B29D6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D21D-BAA6-43FB-8C7F-AC6B15C2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001-2085-4935-B97C-6E0437B3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the most comprehensive campaign of the year…but I need to reduce the mark due to all the spamming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…not so realistic.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done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ly no marks lost here…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hear at times…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36:18Z</dcterms:created>
  <dc:creator>nbdoe</dc:creator>
  <dc:description/>
  <dc:language>en-US</dc:language>
  <cp:lastModifiedBy>nbdoe</cp:lastModifiedBy>
  <dcterms:modified xsi:type="dcterms:W3CDTF">2007-05-11T13:36:22Z</dcterms:modified>
  <cp:revision>1</cp:revision>
  <dc:subject/>
  <dc:title>Election 2007</dc:title>
</cp:coreProperties>
</file>